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12.jpeg" ContentType="image/jpeg"/>
  <Override PartName="/ppt/media/image9.png" ContentType="image/png"/>
  <Override PartName="/ppt/media/image8.png" ContentType="image/png"/>
  <Override PartName="/ppt/media/image7.gif" ContentType="image/gif"/>
  <Override PartName="/ppt/media/image6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gif" ContentType="image/gif"/>
  <Override PartName="/ppt/media/image21.jpeg" ContentType="image/jpeg"/>
  <Override PartName="/ppt/media/image16.gif" ContentType="image/gif"/>
  <Override PartName="/ppt/media/image15.gif" ContentType="image/gif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836-F831-4485-8D9C-42D010D7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5F0-5CD8-4B6C-8F03-B5D3C500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670E6-305A-4B0B-80C7-ADF04023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00537-4418-4570-A1E9-43CFE711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9E462-2334-4D83-80BF-1035F8B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B8E22-BCF0-4526-97E2-9EA143EC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4229A-FF47-45FF-88D0-B8D501E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23137-9CB6-4A0C-8DF9-0A99498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BDCE6-0FFE-4ED6-85EF-33E777E0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4C0DB-C3D9-425D-8C28-33D8CC76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79FB1-0B96-4496-BBB8-616B95B3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4D1BA-9B37-46AA-9933-0DAB4716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FAC-FD5B-46F8-944D-F643A5AA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5619A-AB8E-4152-810D-C1AE9EB7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6FB2A-AA7D-4874-8D8D-C1E2904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85F55-3DC6-4F4B-9675-BB61F9CD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9F5FF-F6F4-4BCF-9E1C-C3E15BA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FAB64-2FD5-4C9E-B61B-ECF3D94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886E2-0659-4B3B-95E3-37DBE24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2CDC5-347C-40A2-972A-2FA28247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269BE-F081-4F2D-93D1-608254AA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857CB-7F23-48AF-9C25-562FBCEE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E2840-32E7-4B3D-A7BD-C4FEBD3C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CFB-16FC-4366-94C0-921CD84E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0CA53-EE55-416A-8631-1ED455DC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D85AE-1E66-4497-AA5C-C3BBCD3D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DD94D-A04D-467A-853B-A307FCB4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1C7F9-5466-4F2C-8A04-0BD4FF15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E77C8-275E-48B9-A064-BE2CBBF4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41665-E947-4B61-B9B9-34177314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485DB-41EA-4EEB-B1B9-997A716C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A571A-EFFA-4AEA-89FC-B97EDDC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574BB-BF76-42E8-9454-219497F6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53CC9-C298-4B51-9AE4-DBF03CDA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C3CF-0973-4AFB-A87A-ABD69A07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694EE-14DA-44AB-8D6B-13D87C65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786EB-B553-4B22-8687-D8A94598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1FECE-8118-4855-9AA5-FEBC97CF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E7341-5D07-4A75-BADC-A7BF61F7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AC77E-221F-4B28-9A92-37F0AA5F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775AB-B3CE-4830-87E6-4412A586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66FFA-0BD4-4FD0-A8A2-33580C1C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19AC0-D080-4B61-AD07-118A2D79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59A18-1A39-4D5A-99D7-5B352392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A2717-F81B-4C86-AC78-30896B6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2E4C-202C-4310-87E4-9CD80C10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2B217-9363-4FAD-B285-DAC0FBDD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AE93F-B7DF-4DD7-B528-8EA951D7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AD201-04DC-4821-B5BE-CC73D819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E606D-E131-4122-9C03-B46A6E29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964C4-EF7C-40D9-8930-5B5CD662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90BB8-DED6-4308-B015-BCA990FB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1AF96-D2BC-400B-804A-AB416077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08782-066D-43E8-8B76-9078F7C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3F155-E610-487D-8881-E6ED27FD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050D4-4189-40EB-A994-123480C5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A2A0-3B8F-4BA4-ADD3-18CB4E12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F6D29-4893-436C-8295-51EAC375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36F57-41C3-480F-9747-D390987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45563-3A30-4DD5-92C7-36936DA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80635-3063-47A7-BEFB-2F1A2A40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B0A44-3C57-4DB9-930A-801F8345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4C9EC-3D70-4A61-A899-3492305B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2E098-BF26-4D99-AAB5-DED83486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1F7B-2D91-42AD-A297-26315873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1F1F-88A5-4240-89E4-86FDCD01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0D1A-7354-4F30-9780-73F9D21A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C29D-15C6-4C56-9185-437EC1A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98D-D5C1-43C4-9BE7-69C543A0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0EA-BDF8-4CCE-AA1C-FBFB4D41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4016-9D93-48B9-B752-7F6E9D02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3EC9-1117-4727-8F3B-771715B2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F603-DB73-489F-83D4-2E7F96FC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31D6-B7C4-48E8-96E5-C28C89DF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EBC27-BB31-413E-ADAF-75595AF3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31C3-582A-4923-939C-BC11DDFB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BD2FE-9D02-4A1E-8FFD-5DF8A412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D366-3263-4099-B982-B579C6CB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B2FD-00A7-440B-A3AD-83E6050F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243-D899-4406-B07A-3253A9CE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357C-F2A1-4517-BED6-6C7E236B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7D1E-9DAD-434A-B2E3-3209D8D5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455D-2347-4015-8EE1-9D5BA24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E89F-A72D-4D24-8150-52617CD6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4E5B-61FD-4535-BC92-9992E159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F2AE-6A88-44E4-93BA-5D0703DD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EB15-D4EE-4A8A-8AB4-6B4BC0E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36CC-E6AB-4C5C-9851-5A4F8E61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CAD8-3285-4FD1-A107-F7CE94C0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E708A-107F-4F49-84E1-0ACFDBFC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BD5-F2F5-45ED-AFC3-22B4FA7B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7DBB-E59F-4C30-8262-65B10E85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4BDEF-4755-427D-A527-049A2B78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806F-5AB9-42AF-9833-46DDF7C9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C7F5-54A7-4BC4-A3A3-1FB03FB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7687-477A-4198-8D1C-9E525C9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9AD50-35CB-4F35-999B-2DD3364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51FA3-D01A-4DD4-932E-80212B14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E38D-2D66-4A37-A04D-C07388FA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31EC-2165-4813-A1E6-613E71B0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34E7E-165F-4BF6-8A29-3B68B3AC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F28-2E13-458E-B465-6ACB531E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E7A6-1B81-4A22-9EFC-F0010169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A7DE-8545-499B-A600-DD6E7568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4E769-3FF5-43BC-98DF-815611D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6FF8-5CCD-4319-AC6D-639FFF5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F42F-8242-43CC-A51C-749BD6BD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9814-24AA-431D-A4BF-510E37A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F0285-6132-44DD-AC2D-2834C5C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6F8C-856E-4292-8CA8-5E1FA3A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39856-0850-470E-A615-05C6C5B3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658C6-E5E3-4975-8665-A6577919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7CD-1E4B-4EE5-A4F8-74A66C25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810D8-250C-40C0-9B37-091CE1FE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BB2DF-CA02-430F-9E7C-F9DB2FCE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E2128-6AB1-4EA8-BAC1-89670508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F97C7-86E2-4CD1-8FE5-74154E0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218C2-2EE4-4CA9-BA72-66B15F2A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94988-E2DC-478D-9FBA-12CAFFCF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2754F-3F01-413C-B326-195AC1DC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325CB-862E-4D14-BCD7-C5959427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119E1-A661-477B-95C8-2F45E0BA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2C2D5-89BE-4AED-930A-2272FAEB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C83-593A-4BF9-9405-CB57F514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66729-C38C-4DF8-96AC-1530EE6D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91B4E-0960-47B1-AB17-674C34FD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19BA3-71E2-4643-A7FF-ADD1ADA5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DB767-2A06-43CA-8CDC-2E2A1790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951E8-4975-4F48-AA17-80606D8A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CD2CD-EE50-4D9B-869E-822DC8A0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04B21-EA61-4011-94CB-5CE6B7FA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DCEA2-8DDD-414A-9231-AB4CF1F8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D875-EB47-43CB-8867-F97102CB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BC84-9A2D-4309-9EE8-CCE96FFB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95D6-08C6-4779-8112-BEA7355F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97C60-C1E7-4123-96F1-1D4F977F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CF663-AF12-4420-8A81-D7D9B8F8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77259-6046-44BA-9C7E-CE57B172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0D248-72DF-4400-89DA-FD3A30CC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F0B54-32D7-4CC9-A9B8-20BC2426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972F2-2370-4C40-B5EC-5441B355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467A8-9BFA-4109-A22F-1AF57414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589AD-2EB9-4B6A-B493-931EC93A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26320-2646-44BA-AFDF-6ABCC1E7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57E0E-622C-49B6-A581-21F5A893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AEA-3D53-425B-AF89-9277F101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CC6E8-2114-4A70-85F6-07652526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2EE96-7C0E-41A0-9FE6-877AD11C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13F96-F008-403E-84D6-97C27556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8D4C3-BC70-4519-B5AB-8CCFD851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CB5B1-3677-43F7-BD59-705E9D10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51211-8A69-4879-B981-740F4BD0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A617-C8E5-4510-A167-17DD0E55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DEE10-C5D5-49D6-8B04-1E065A9E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BDA2D-6DCB-4AC9-992A-CF43DC48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02195-EF6B-48AB-A8D7-A06F01D8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CD76-5BAC-4063-B50E-FE89CE6536D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4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8706-51DC-4F03-85A0-D410A4FF76A2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2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89B0-636A-426D-977C-AADCB534AB7C}" type="slidenum">
              <a:rPr b="0" lang="en-A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8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CC23-6742-4066-B58D-11A0EE41A29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2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4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CC1B-EA9F-4942-AD28-F5EB5F523309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D207-1BB5-4D2E-9188-178DA3703364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C17D-91BF-42B5-9B64-E8C21AB6C6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545C-01D0-4864-863E-DA19327D3C1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8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1D8A-8943-4217-A1FD-076192CCF657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0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8344-0AC7-4FA2-A728-767BE9355AE9}" type="slidenum">
              <a:rPr b="0" lang="en-A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87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9438-33DF-49C7-A397-106334C3DAE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37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50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CF0B-AC0B-4E6A-AC40-8217D088C43B}" type="slidenum">
              <a:rPr b="0" lang="en-A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1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C3AC-F5D1-4B7A-8A3C-42790B05922C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00ffff"/>
                </a:solidFill>
                <a:latin typeface="Garamond"/>
              </a:rPr>
              <a:t>Sensing our Environ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08" name="Picture 5" descr="cart049"/>
          <p:cNvPicPr/>
          <p:nvPr/>
        </p:nvPicPr>
        <p:blipFill>
          <a:blip r:embed="rId1"/>
          <a:stretch/>
        </p:blipFill>
        <p:spPr>
          <a:xfrm>
            <a:off x="1403280" y="2276640"/>
            <a:ext cx="3097440" cy="26222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" descr="tn_eyes_075"/>
          <p:cNvPicPr/>
          <p:nvPr/>
        </p:nvPicPr>
        <p:blipFill>
          <a:blip r:embed="rId2"/>
          <a:stretch/>
        </p:blipFill>
        <p:spPr>
          <a:xfrm>
            <a:off x="6156360" y="17668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7" descr="tn_eyes_066"/>
          <p:cNvPicPr/>
          <p:nvPr/>
        </p:nvPicPr>
        <p:blipFill>
          <a:blip r:embed="rId3"/>
          <a:stretch/>
        </p:blipFill>
        <p:spPr>
          <a:xfrm>
            <a:off x="4859280" y="428616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cc"/>
                </a:solidFill>
                <a:latin typeface="Arial"/>
              </a:rPr>
              <a:t>Human Olfactory recepto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oes it work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We smell something when vapours consisting of small lipid-soluble molecules bind to receptors, triggering an impulse that travel to the brain where it is perceiv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4" descr="ZOXPCALZNT58CA3IPX81CABDWOLOCAK8CV6KCAG0G22FCA437SGCCAXBZBNBCAGFKFCZCA8RUSMWCAEPAW8OCAD0TL2ICACVQ6KACA0NQHD6CA5AEHMDCA5I5NULCA59D5G0CA81OXXICA0MNA9CCAV9TXI8"/>
          <p:cNvPicPr/>
          <p:nvPr/>
        </p:nvPicPr>
        <p:blipFill>
          <a:blip r:embed="rId1"/>
          <a:stretch/>
        </p:blipFill>
        <p:spPr>
          <a:xfrm>
            <a:off x="1403280" y="3614760"/>
            <a:ext cx="2952720" cy="25416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images15"/>
          <p:cNvPicPr/>
          <p:nvPr/>
        </p:nvPicPr>
        <p:blipFill>
          <a:blip r:embed="rId2"/>
          <a:stretch/>
        </p:blipFill>
        <p:spPr>
          <a:xfrm>
            <a:off x="5292720" y="0"/>
            <a:ext cx="30862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b7"/>
                </a:solidFill>
                <a:latin typeface="Arial Black"/>
              </a:rPr>
              <a:t>Touch and Tactile recep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ceptors to detect stimuli that produce sensations of touch, pressure, temperature and pain are distributed over the entire skin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o stimulate tactile receptors – must have physical contact with the external body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b7"/>
                </a:solidFill>
                <a:latin typeface="Arial Black"/>
              </a:rPr>
              <a:t>Touch and Tactile recepto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iskers and bristles around the face of many mammals have touch receptors at their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these act as extensions of the body surface increasing the ability to collect information through t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is the value of p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4" descr="1VXNCAU9MNO0CAKPRWQ0CAVJI1KZCA4AGRD1CATL38S1CA8PA88CCAH60C1UCA1CCSSZCAHKR5W9CATANC1VCA11Z6BJCAL9EGSGCAT5W4S6CAZN3R5DCA5G1126CADT2NFWCA2FHW6XCAEMLZ0ECA3A573U"/>
          <p:cNvPicPr/>
          <p:nvPr/>
        </p:nvPicPr>
        <p:blipFill>
          <a:blip r:embed="rId1"/>
          <a:stretch/>
        </p:blipFill>
        <p:spPr>
          <a:xfrm>
            <a:off x="1239840" y="3573360"/>
            <a:ext cx="3192480" cy="32846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5" descr="5VBWCAL4SD96CAA6UVY5CAQ23CEVCAMZ62A0CA6HPYRNCAOU35VMCAQB2G28CA1J6CR9CAZNE5AUCA3U8MTYCAGL2KLQCAX6HCVICAT6JCZ8CAT6E9L1CABVFQD1CAFOVF1VCAFRURZICALSLRG6CATKBECJ"/>
          <p:cNvPicPr/>
          <p:nvPr/>
        </p:nvPicPr>
        <p:blipFill>
          <a:blip r:embed="rId2"/>
          <a:stretch/>
        </p:blipFill>
        <p:spPr>
          <a:xfrm>
            <a:off x="5219640" y="838080"/>
            <a:ext cx="30243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ffff"/>
                </a:solidFill>
                <a:latin typeface="Arial"/>
              </a:rPr>
              <a:t>Ears and Hea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 receptors are concentrated in the ear in mammals, birds, reptiles and amphibia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regions commonly identified in the human e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- outer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- middle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ff"/>
                </a:solidFill>
                <a:latin typeface="Verdana"/>
              </a:rPr>
              <a:t>- inner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ffff"/>
                </a:solidFill>
                <a:latin typeface="Arial"/>
              </a:rPr>
              <a:t>Ears and Hea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00"/>
                </a:solidFill>
                <a:latin typeface="Verdana"/>
              </a:rPr>
              <a:t>Outer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external ear made of cartilage leads into an ear canal about 2.5cm lo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the canal ends in delicate membrane (eardr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gathers sound wa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ffff"/>
                </a:solidFill>
                <a:latin typeface="Arial"/>
              </a:rPr>
              <a:t>Ears and Hea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2800" spc="-1" strike="noStrike">
                <a:solidFill>
                  <a:srgbClr val="00ff00"/>
                </a:solidFill>
                <a:latin typeface="Verdana"/>
              </a:rPr>
              <a:t>Middle 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an air-filled cavity that contains three tiny bones joined by elastic liga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sound waves cause the eardrum to vibr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the vibration is conducted across the middle ear by the three bones to the inner 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the force of the vibration is magnified (transmitted from a large area to a smaller area in the inner ear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- magnifies the sound vibr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ffff"/>
                </a:solidFill>
                <a:latin typeface="Arial"/>
              </a:rPr>
              <a:t>Ears and Hear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200" spc="-1" strike="noStrike">
                <a:solidFill>
                  <a:srgbClr val="00ff00"/>
                </a:solidFill>
                <a:latin typeface="Verdana"/>
              </a:rPr>
              <a:t>Inner 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consists of a small coiled structure (cochlea), filled with flu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vibrations reaching the inner ear produce pressure on the flu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sound receptors are minute hair cells on the membrane inside the cochl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- receives the sound stimul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4" descr="images"/>
          <p:cNvPicPr/>
          <p:nvPr/>
        </p:nvPicPr>
        <p:blipFill>
          <a:blip r:embed="rId1"/>
          <a:stretch/>
        </p:blipFill>
        <p:spPr>
          <a:xfrm>
            <a:off x="611280" y="3048120"/>
            <a:ext cx="4593960" cy="2763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images5"/>
          <p:cNvPicPr/>
          <p:nvPr/>
        </p:nvPicPr>
        <p:blipFill>
          <a:blip r:embed="rId2"/>
          <a:stretch/>
        </p:blipFill>
        <p:spPr>
          <a:xfrm>
            <a:off x="5796000" y="433440"/>
            <a:ext cx="3097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Sen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00"/>
                </a:solidFill>
                <a:latin typeface="Tahoma"/>
              </a:rPr>
              <a:t>S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Tahoma"/>
              </a:rPr>
              <a:t>Tast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ff00"/>
                </a:solidFill>
                <a:latin typeface="Tahoma"/>
              </a:rPr>
              <a:t>Smell (Olfacto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ff"/>
                </a:solidFill>
                <a:latin typeface="Tahoma"/>
              </a:rPr>
              <a:t>Touch and Tact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3" name="Picture 6" descr="3_monkeys"/>
          <p:cNvPicPr/>
          <p:nvPr/>
        </p:nvPicPr>
        <p:blipFill>
          <a:blip r:embed="rId1"/>
          <a:stretch/>
        </p:blipFill>
        <p:spPr>
          <a:xfrm>
            <a:off x="5724360" y="1916280"/>
            <a:ext cx="2880000" cy="12315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7" descr="Circus_bear"/>
          <p:cNvPicPr/>
          <p:nvPr/>
        </p:nvPicPr>
        <p:blipFill>
          <a:blip r:embed="rId2"/>
          <a:stretch/>
        </p:blipFill>
        <p:spPr>
          <a:xfrm>
            <a:off x="4140360" y="4076640"/>
            <a:ext cx="18046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Human Light recept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isual stimulus in the form of light enters the human eye through the cornea and passes through the lens where it is focussed onto the re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retina contains 2 kinds of photoreceptors – 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rod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cone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which contain light-sensitive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4" descr="tn_eyes_066"/>
          <p:cNvPicPr/>
          <p:nvPr/>
        </p:nvPicPr>
        <p:blipFill>
          <a:blip r:embed="rId1"/>
          <a:stretch/>
        </p:blipFill>
        <p:spPr>
          <a:xfrm>
            <a:off x="6516720" y="342900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Human Light recept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bres from rods and cones lead to the optic ner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4000" spc="-1" strike="noStrike">
                <a:solidFill>
                  <a:srgbClr val="ff0000"/>
                </a:solidFill>
                <a:latin typeface="Arial"/>
              </a:rPr>
              <a:t>Cone cell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unction in high light intensities and detect colour and det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concentrated in the central retina, used when a person looks straight at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Human Light recept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4000" spc="-1" strike="noStrike">
                <a:solidFill>
                  <a:srgbClr val="ff0000"/>
                </a:solidFill>
                <a:latin typeface="Arial"/>
              </a:rPr>
              <a:t>Rod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detect low intensity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detect movement of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do not distinguish colour or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- occur in highest concentrations in the outer areas of the ret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5" descr="images10"/>
          <p:cNvPicPr/>
          <p:nvPr/>
        </p:nvPicPr>
        <p:blipFill>
          <a:blip r:embed="rId1"/>
          <a:stretch/>
        </p:blipFill>
        <p:spPr>
          <a:xfrm>
            <a:off x="4284720" y="692280"/>
            <a:ext cx="2592360" cy="24494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7" descr="images8"/>
          <p:cNvPicPr/>
          <p:nvPr/>
        </p:nvPicPr>
        <p:blipFill>
          <a:blip r:embed="rId2"/>
          <a:stretch/>
        </p:blipFill>
        <p:spPr>
          <a:xfrm>
            <a:off x="1332000" y="3718080"/>
            <a:ext cx="266364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66ff66"/>
                </a:solidFill>
                <a:latin typeface="Arial"/>
              </a:rPr>
              <a:t>Human Taste recept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ste receptors are located in taste buds on the tongue in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erves from these receptors transmit impulses to the b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aste receptors detect chemical substances in solution in the sal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66ff66"/>
                </a:solidFill>
                <a:latin typeface="Arial"/>
              </a:rPr>
              <a:t>Five basic tastes are identified: sour, salt, bitter, sweet, uma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l taste buds detect all five basic t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4" descr="wine_glass"/>
          <p:cNvPicPr/>
          <p:nvPr/>
        </p:nvPicPr>
        <p:blipFill>
          <a:blip r:embed="rId1"/>
          <a:stretch/>
        </p:blipFill>
        <p:spPr>
          <a:xfrm>
            <a:off x="8317080" y="620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5" descr="toco"/>
          <p:cNvPicPr/>
          <p:nvPr/>
        </p:nvPicPr>
        <p:blipFill>
          <a:blip r:embed="rId2"/>
          <a:stretch/>
        </p:blipFill>
        <p:spPr>
          <a:xfrm>
            <a:off x="395280" y="476280"/>
            <a:ext cx="781200" cy="5810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2food5"/>
          <p:cNvPicPr/>
          <p:nvPr/>
        </p:nvPicPr>
        <p:blipFill>
          <a:blip r:embed="rId3"/>
          <a:stretch/>
        </p:blipFill>
        <p:spPr>
          <a:xfrm>
            <a:off x="7812000" y="2997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Burger-02"/>
          <p:cNvPicPr/>
          <p:nvPr/>
        </p:nvPicPr>
        <p:blipFill>
          <a:blip r:embed="rId4"/>
          <a:stretch/>
        </p:blipFill>
        <p:spPr>
          <a:xfrm>
            <a:off x="3419640" y="183816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4" descr="08O6CAI2UWB5CAPM2YLYCA9CRMW3CAOYBGI5CA00T55QCAAHPMWXCAR0VV5SCAZLALTUCA446EUKCAA4WKGTCAYD2H3ICAM18J5LCA1AFRQLCAGBABJJCADCCTA7CA669H2FCAUZTB0BCA80X78JCAUXAQ4K"/>
          <p:cNvPicPr/>
          <p:nvPr/>
        </p:nvPicPr>
        <p:blipFill>
          <a:blip r:embed="rId1"/>
          <a:stretch/>
        </p:blipFill>
        <p:spPr>
          <a:xfrm>
            <a:off x="1476360" y="3095640"/>
            <a:ext cx="2519280" cy="244476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5" descr="F4H6CAAYX2GVCA80A0LPCALD3RIECA5I6NDSCAJL3RKJCAY60BMKCA2RIMUYCAN1097KCAVH29GICAQ94LMPCALOY5GBCASUHO05CA48EVD8CAM85QG3CAJV645VCA3KPQBACAK39ET7CA9035XHCAR4XG5Z"/>
          <p:cNvPicPr/>
          <p:nvPr/>
        </p:nvPicPr>
        <p:blipFill>
          <a:blip r:embed="rId2"/>
          <a:stretch/>
        </p:blipFill>
        <p:spPr>
          <a:xfrm>
            <a:off x="6012000" y="549360"/>
            <a:ext cx="24177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cc"/>
                </a:solidFill>
                <a:latin typeface="Arial"/>
              </a:rPr>
              <a:t>Human Olfactory recepto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Olfactory receptors are located on bony outgrowths inside the nasal cav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Verdana"/>
              </a:rPr>
              <a:t>In humans, olfactory receptors are nerve cells.  The fibres from these cells form the olfactory nerve leading to the bra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02:34:39Z</dcterms:created>
  <dc:creator>Lyn Clarkson</dc:creator>
  <dc:description/>
  <dc:language>en-US</dc:language>
  <cp:lastModifiedBy>Emily</cp:lastModifiedBy>
  <dcterms:modified xsi:type="dcterms:W3CDTF">2008-07-22T11:21:54Z</dcterms:modified>
  <cp:revision>8</cp:revision>
  <dc:subject/>
  <dc:title>Slide 1</dc:title>
</cp:coreProperties>
</file>